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8881920"/>
            <a:ext cx="19432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ssment Servi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6120" y="8886600"/>
            <a:ext cx="1866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vised 7/31/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04920" y="533520"/>
            <a:ext cx="6324480" cy="777240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3505320" y="609480"/>
          <a:ext cx="3124080" cy="7619760"/>
        </p:xfrm>
        <a:graphic>
          <a:graphicData uri="http://schemas.openxmlformats.org/drawingml/2006/table">
            <a:tbl>
              <a:tblPr/>
              <a:tblGrid>
                <a:gridCol w="2057400"/>
                <a:gridCol w="1066680"/>
              </a:tblGrid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ing Wind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1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th STAAR-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th STA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TAAR Wri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27-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TAAR-L Rea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ntinu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TAAR Rea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STAR Screen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 – May 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AR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</a:tr>
              <a:tr h="36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th STAAR-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1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th STA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1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ading STAAR-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ntinu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1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ading STA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2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ience STA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6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ience STAAR-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3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oc. Studies STA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1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oc. Studies STAAR-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1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olastic Rdg Inven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 30–May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29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ebra End-of-Course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</a:tr>
              <a:tr h="30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ebra End-of-Course Ex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7 - 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6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ience Spring C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6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istory Spring C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6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echnology EO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2" name="Footer Placeholder 8"/>
          <p:cNvSpPr/>
          <p:nvPr/>
        </p:nvSpPr>
        <p:spPr>
          <a:xfrm>
            <a:off x="4686480" y="8886960"/>
            <a:ext cx="1866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vised 8/08/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609480"/>
          <a:ext cx="3200400" cy="7619760"/>
        </p:xfrm>
        <a:graphic>
          <a:graphicData uri="http://schemas.openxmlformats.org/drawingml/2006/table">
            <a:tbl>
              <a:tblPr/>
              <a:tblGrid>
                <a:gridCol w="2133360"/>
                <a:gridCol w="1067040"/>
              </a:tblGrid>
              <a:tr h="46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ing Wind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STAR Screen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 29-Sept 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4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olastic Rdg Inven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 26 - Oct 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57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ading/ELA Fall C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5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th/Alg Fall C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riting STAAR Bench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 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ience Fall C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4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oc.Studies Fall C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40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olastic Rdg Inven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5 - 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6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TAAR-A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9 - Apr 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6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STAR Screen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3 - 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22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th STAAR Benchmar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</a:tr>
              <a:tr h="32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ading STAAR Bench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</a:tr>
              <a:tr h="34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olastic Rdg Invent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-Mar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626275"/>
                        </a:gs>
                        <a:gs pos="50000">
                          <a:srgbClr val="d5d5ff"/>
                        </a:gs>
                        <a:gs pos="100000">
                          <a:srgbClr val="626275"/>
                        </a:gs>
                      </a:gsLst>
                      <a:lin ang="5400000"/>
                    </a:gradFill>
                  </a:tcPr>
                </a:tc>
              </a:tr>
              <a:tr h="34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PAS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</a:tr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P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67546"/>
                        </a:gs>
                        <a:gs pos="50000">
                          <a:srgbClr val="99ff99"/>
                        </a:gs>
                        <a:gs pos="100000">
                          <a:srgbClr val="467546"/>
                        </a:gs>
                      </a:gsLst>
                      <a:lin ang="5400000"/>
                    </a:gradFill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lgebra Bench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</a:tr>
              <a:tr h="35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th &amp;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ience Bench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</a:tr>
              <a:tr h="35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dg &amp; 8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istory Bench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</a:tr>
              <a:tr h="35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ading TAKS Bench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5e"/>
                        </a:gs>
                        <a:gs pos="50000">
                          <a:srgbClr val="ffcccc"/>
                        </a:gs>
                        <a:gs pos="100000">
                          <a:srgbClr val="755e5e"/>
                        </a:gs>
                      </a:gsLst>
                      <a:lin ang="5400000"/>
                    </a:gra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AR Tra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17451"/>
                        </a:gs>
                        <a:gs pos="50000">
                          <a:srgbClr val="f7fcb0"/>
                        </a:gs>
                        <a:gs pos="100000">
                          <a:srgbClr val="717451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1309680" y="0"/>
            <a:ext cx="44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-2012  District Assessment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of 8-8-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05320" y="609480"/>
            <a:ext cx="0" cy="7696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5000" y="8381880"/>
            <a:ext cx="246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CBA – Curriculum-Based Assessments (in clas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1720" y="8381880"/>
            <a:ext cx="279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Benchmark – STAAR Practice Tests (4-hour Time Limi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0440" y="8631360"/>
            <a:ext cx="599760" cy="215640"/>
          </a:xfrm>
          <a:prstGeom prst="rect">
            <a:avLst/>
          </a:prstGeom>
          <a:gradFill rotWithShape="0">
            <a:gsLst>
              <a:gs pos="0">
                <a:srgbClr val="717451"/>
              </a:gs>
              <a:gs pos="50000">
                <a:srgbClr val="f7fcb0"/>
              </a:gs>
              <a:gs pos="100000">
                <a:srgbClr val="71745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in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80160" y="8631360"/>
            <a:ext cx="1538640" cy="215640"/>
          </a:xfrm>
          <a:prstGeom prst="rect">
            <a:avLst/>
          </a:prstGeom>
          <a:gradFill rotWithShape="0">
            <a:gsLst>
              <a:gs pos="0">
                <a:srgbClr val="626275"/>
              </a:gs>
              <a:gs pos="50000">
                <a:srgbClr val="d5d5ff"/>
              </a:gs>
              <a:gs pos="100000">
                <a:srgbClr val="6262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-Class District Assess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93760" y="8610480"/>
            <a:ext cx="2189520" cy="215640"/>
          </a:xfrm>
          <a:prstGeom prst="rect">
            <a:avLst/>
          </a:prstGeom>
          <a:gradFill rotWithShape="0">
            <a:gsLst>
              <a:gs pos="0">
                <a:srgbClr val="755e5e"/>
              </a:gs>
              <a:gs pos="50000">
                <a:srgbClr val="ffcccc"/>
              </a:gs>
              <a:gs pos="100000">
                <a:srgbClr val="755e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-Day District Practice TAKS Assess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12600" y="8610480"/>
            <a:ext cx="1060200" cy="21564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te Assess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21:03:28Z</dcterms:created>
  <dc:creator>cblack</dc:creator>
  <dc:description/>
  <dc:language>en-US</dc:language>
  <cp:lastModifiedBy>jharding</cp:lastModifiedBy>
  <dcterms:modified xsi:type="dcterms:W3CDTF">2011-08-18T14:41:56Z</dcterms:modified>
  <cp:revision>470</cp:revision>
  <dc:subject/>
  <dc:title>Slide 1</dc:title>
</cp:coreProperties>
</file>